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3D5-1FC3-44A3-B8AE-D7BE3317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B16-0C14-465E-A5A8-8E819033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12D-BF7A-498A-AD18-CCEC3D05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375-8187-47DA-B5B1-57D0FB36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7756-B889-4CF9-ABE0-3629BD4D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5E1C-A7C0-4753-9F15-EF6B5EDB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9305-6A72-4BEF-B715-53FBAD41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9A5D-2636-4307-9E2F-0E033C47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34A0-7EC2-4686-84F9-8F7ADC3C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814D-4F87-45BA-B10B-DA350541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6D36-93A4-41B0-B9A2-1C97FDB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8B8-0582-483E-9557-78EB0998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5C35-662C-47EA-90A7-C3ACC763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A86B-B4B4-4C9A-A08D-AB38F787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5ACA-B8DC-4562-81EE-9332817E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AEA1-5C87-44A1-9C14-CEF6C2B7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08AE-A81C-45CA-AE32-C72F23CA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74C-5B1C-479A-B19B-C1B2C2AB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F1C-4875-4E2A-804F-CF995D70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D1A-CDBA-414B-A0B0-AEBAE585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622-8D6F-43FA-AF17-8C79DB1A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711-C792-4413-8FED-DDE57AB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778-0C3D-4B8D-B9CD-BC432D61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7C4-F1E9-4688-BB35-45DD7185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B731-6302-441C-BA76-DC10D4C723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E7FE-BCA0-4D80-85BE-B0F5892773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.B.A./B.I.P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m for Eclecticism: Psychodynamic Case Formulation Supported by Cognitive-Behavioral and Systemic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in Point:  Frank N. S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eria for creating the FBA/B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vel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ntertransfe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nk pushes the bu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bservable, measurable behav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seline and frequency da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act on Level Stat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cological Impa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go Dystoni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rpetuates Fail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380880" y="380880"/>
          <a:ext cx="84582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45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dynamic Case Formulation in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apsychic life intimately connected to behavioral manifes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listic without compromi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tachment Theory and the Therapeutic Milie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struct of Traumatic Re-Enact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dynamic Case Formulation: Application to Frank N. S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sychosocial context of behavi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aumatic Re-Enactment parall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amily of Origin repli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aptive defensive posture for Fra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s the emotional need and how do we meet it?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P: Psychodynamic Heart and a CBT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sychodynamic case formulation: effect on staff and stud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havioral Incentive: the need as reward – the contingency chan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ynamically: Defense allowed to cope and suppor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ystemically: Re-writing the trauma scrip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3:52:32Z</dcterms:created>
  <dc:creator>Template</dc:creator>
  <dc:description/>
  <dc:language>en-US</dc:language>
  <cp:lastModifiedBy>lallen</cp:lastModifiedBy>
  <dcterms:modified xsi:type="dcterms:W3CDTF">2010-10-12T19:03:58Z</dcterms:modified>
  <cp:revision>14</cp:revision>
  <dc:subject/>
  <dc:title>F.B.A./B.I.P. </dc:title>
</cp:coreProperties>
</file>